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13.jpeg" ContentType="image/jpeg"/>
  <Override PartName="/ppt/media/image5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64DC-8E04-4AD2-AFDD-3833FB0E4C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004D5-C01D-43AA-B3D1-EB00A2332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1091D-703E-4E67-B3FB-2CCB8F2870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3E1E3-3580-444F-93DB-C85DD8D3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F1465-5EDA-43D1-8D4D-B44F9765D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10561F-2FD3-4CA3-BF71-72368E859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F98A-82AC-41AD-A3C3-5C59564D1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E71D6-7F7C-4E1E-AA3D-8531BC66B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8A683-6772-4C83-A6A9-66F8D9934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3660F8-BA5D-4CC8-8341-93E8EAF2D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7CA4A-B54A-4811-AD7E-464E60D2C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0C2D-C000-4831-9DB6-BCE65D811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E049E-58AA-4D51-97F2-C5FE975D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E51E9-2183-49EE-977F-101513925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4388-58CA-4AED-9015-284C1BDE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88F98-E9DD-43AA-B833-FFCE4978B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00780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584320" y="210780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3128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00780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584320" y="4113720"/>
            <a:ext cx="245340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2A00-0F8A-4A3A-8C73-9E4127C94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C4E34-7572-4D2F-A602-AFBE8FBD4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C4B51-269E-41DE-AE70-46CE9577A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02F5-F2EC-4DD6-90C3-5CA13E7F2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31280" y="96480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CEB-B9B4-4BC1-AD8E-835422C91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0FB9-6593-41F5-A19B-F78229EA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336200" y="411372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9F2F-1B8F-4644-ADAE-9709C0760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3128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336200" y="2107800"/>
            <a:ext cx="371844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31280" y="4113720"/>
            <a:ext cx="7620120" cy="183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9423C-29E9-483A-B73D-3940F6469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280" y="2107800"/>
            <a:ext cx="762012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1" marL="690840" indent="-26568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2" marL="106272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3" marL="148788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4" marL="1913040" indent="-212400" algn="r" rtl="1">
              <a:spcBef>
                <a:spcPts val="799"/>
              </a:spcBef>
              <a:buClr>
                <a:srgbClr val="46464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5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  <a:p>
            <a:pPr lvl="6" marL="1913040" indent="-2124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6C4C-CF55-4385-80E7-E47FFF0F5D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8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705E2C-4EB3-4321-B461-1375819082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Click to edit the outline text format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46464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6464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64646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46464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46464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6464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6464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" Target="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"/><Relationship Id="rId3" Type="http://schemas.openxmlformats.org/officeDocument/2006/relationships/image" Target="../media/image5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13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700" spc="-1" strike="noStrike">
                <a:solidFill>
                  <a:srgbClr val="003399"/>
                </a:solidFill>
                <a:latin typeface="Arial"/>
              </a:rPr>
              <a:t>شركة العلم</a:t>
            </a:r>
            <a:endParaRPr b="0" lang="en-US" sz="67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ننسج المعلومة خدمة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5213520" y="1863720"/>
            <a:ext cx="2944800" cy="2944800"/>
          </a:xfrm>
          <a:prstGeom prst="rect">
            <a:avLst/>
          </a:prstGeom>
          <a:ln w="0">
            <a:noFill/>
          </a:ln>
        </p:spPr>
      </p:pic>
      <p:sp>
        <p:nvSpPr>
          <p:cNvPr id="8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500"/>
                            </p:stCondLst>
                            <p:childTnLst>
                              <p:par>
                                <p:cTn id="11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" dur="25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200"/>
                            </p:stCondLst>
                            <p:childTnLst>
                              <p:par>
                                <p:cTn id="1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" dur="5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361960"/>
            <a:ext cx="4572000" cy="84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700" spc="-1" strike="noStrike">
                <a:solidFill>
                  <a:srgbClr val="003399"/>
                </a:solidFill>
                <a:latin typeface="Arial"/>
              </a:rPr>
              <a:t>تم</a:t>
            </a:r>
            <a:br>
              <a:rPr sz="6700"/>
            </a:b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2800" spc="-1" strike="noStrike">
                <a:solidFill>
                  <a:srgbClr val="003399"/>
                </a:solidFill>
                <a:latin typeface="Arial"/>
              </a:rPr>
              <a:t>تأكيد الملكية</a:t>
            </a:r>
            <a:r>
              <a:rPr b="0" lang="ar-SA" sz="32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32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3647880"/>
            <a:ext cx="4572000" cy="21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464646"/>
                </a:solidFill>
                <a:latin typeface="Arial"/>
              </a:rPr>
              <a:t>الخدمة التي تقدم السيرة الذاتية لكل سيارة</a:t>
            </a:r>
            <a:r>
              <a:rPr b="0" lang="en-US" sz="40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500"/>
                            </p:stCondLst>
                            <p:childTnLst>
                              <p:par>
                                <p:cTn id="28" nodeType="afterEffect" fill="hold" presetClass="emph" presetID="26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" dur="250" autoRev="1" fill="hold"/>
                                        <p:tgtEl>
                                          <p:spTgt spid="8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200"/>
                            </p:stCondLst>
                            <p:childTnLst>
                              <p:par>
                                <p:cTn id="3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4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endParaRPr b="0" lang="en-US" sz="5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280" y="2798640"/>
            <a:ext cx="7620120" cy="23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600" spc="-1" strike="noStrike">
                <a:solidFill>
                  <a:srgbClr val="464646"/>
                </a:solidFill>
                <a:latin typeface="Arial"/>
              </a:rPr>
              <a:t>الخدمة التي تخبر بالمالك الحقيقي للسيارة المستعملة قبل شرائها، وعدد الملاك السابقين، ومدد ملكياتهم، والمخالفات المستحقة على البائع والمشتري</a:t>
            </a:r>
            <a:endParaRPr b="0" lang="en-US" sz="36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sp>
        <p:nvSpPr>
          <p:cNvPr id="96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5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قبل خدمة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سي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سرق السيارات وتباع باستمارات مزورة..!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  <a:p>
            <a:pPr marL="322200" indent="-322200" algn="r" rtl="1">
              <a:spcBef>
                <a:spcPts val="825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300" spc="-1" strike="noStrike">
                <a:solidFill>
                  <a:srgbClr val="ff0000"/>
                </a:solidFill>
                <a:latin typeface="Arial"/>
              </a:rPr>
              <a:t>الاستمارات:</a:t>
            </a:r>
            <a:r>
              <a:rPr b="0" lang="ar-SA" sz="3300" spc="-1" strike="noStrike">
                <a:solidFill>
                  <a:srgbClr val="464646"/>
                </a:solidFill>
                <a:latin typeface="Arial"/>
              </a:rPr>
              <a:t> تختفي معلوماتها عند استصدار (بدل فاقد).</a:t>
            </a:r>
            <a:endParaRPr b="0" lang="en-US" sz="33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1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3000"/>
                            </p:stCondLst>
                            <p:childTnLst>
                              <p:par>
                                <p:cTn id="58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4000"/>
                            </p:stCondLst>
                            <p:childTnLst>
                              <p:par>
                                <p:cTn id="6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5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31280" y="96480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وعندما جاءت 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ar-SA" sz="5000" spc="-1" strike="noStrike">
                <a:solidFill>
                  <a:srgbClr val="003399"/>
                </a:solidFill>
                <a:latin typeface="Arial"/>
              </a:rPr>
              <a:t>تـم</a:t>
            </a:r>
            <a:r>
              <a:rPr b="0" lang="ar-SA" sz="5400" spc="-1" strike="noStrike">
                <a:solidFill>
                  <a:srgbClr val="003399"/>
                </a:solidFill>
                <a:latin typeface="Arial"/>
              </a:rPr>
              <a:t>"</a:t>
            </a:r>
            <a:r>
              <a:rPr b="0" lang="en-US" sz="5000" spc="-1" strike="noStrike">
                <a:solidFill>
                  <a:srgbClr val="003399"/>
                </a:solidFill>
                <a:latin typeface="Arial"/>
              </a:rPr>
              <a:t>..</a:t>
            </a:r>
            <a:endParaRPr b="0" lang="en-US" sz="5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476600" y="2082600"/>
            <a:ext cx="3778560" cy="37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46464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464646"/>
                </a:solidFill>
                <a:latin typeface="Arial"/>
              </a:rPr>
              <a:t>معرفة المالك الحقيقي، وعدد الملاك السابقين، ومدد ملكياتهم، والمخالفات المستحقة.. </a:t>
            </a:r>
            <a:r>
              <a:rPr b="0" lang="hi-IN" sz="3200" spc="-1" strike="noStrike">
                <a:solidFill>
                  <a:srgbClr val="ff0000"/>
                </a:solidFill>
                <a:latin typeface="Arial"/>
              </a:rPr>
              <a:t>خلال ثوان معدودة.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1994040"/>
            <a:ext cx="4406760" cy="4863960"/>
          </a:xfrm>
          <a:prstGeom prst="rect">
            <a:avLst/>
          </a:prstGeom>
          <a:ln w="0">
            <a:noFill/>
          </a:ln>
        </p:spPr>
      </p:pic>
      <p:sp>
        <p:nvSpPr>
          <p:cNvPr id="107" name="">
            <a:hlinkClick r:id="rId2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3000"/>
                            </p:stCondLst>
                            <p:childTnLst>
                              <p:par>
                                <p:cTn id="77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9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3"/>
          <a:stretch/>
        </p:blipFill>
        <p:spPr>
          <a:xfrm>
            <a:off x="0" y="1305000"/>
            <a:ext cx="7362720" cy="555300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7583400" y="315828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r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3"/>
          <a:stretch/>
        </p:blipFill>
        <p:spPr>
          <a:xfrm>
            <a:off x="-1908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17" name="" descr=""/>
          <p:cNvPicPr/>
          <p:nvPr/>
        </p:nvPicPr>
        <p:blipFill>
          <a:blip r:embed="rId4"/>
          <a:stretch/>
        </p:blipFill>
        <p:spPr>
          <a:xfrm>
            <a:off x="4552920" y="2220840"/>
            <a:ext cx="4572000" cy="3276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18" name=""/>
          <p:cNvSpPr/>
          <p:nvPr/>
        </p:nvSpPr>
        <p:spPr>
          <a:xfrm>
            <a:off x="133200" y="625896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Leafl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788240" y="1297080"/>
            <a:ext cx="1014480" cy="78084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2657520" y="1712880"/>
            <a:ext cx="2752560" cy="3840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76320" y="1295280"/>
            <a:ext cx="2435040" cy="4257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5562720" y="2870280"/>
            <a:ext cx="3504960" cy="26827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24" name=""/>
          <p:cNvSpPr/>
          <p:nvPr/>
        </p:nvSpPr>
        <p:spPr>
          <a:xfrm>
            <a:off x="1522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Roll 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601920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715000" y="6035040"/>
            <a:ext cx="1219320" cy="322200"/>
          </a:xfrm>
          <a:prstGeom prst="rect">
            <a:avLst/>
          </a:prstGeom>
          <a:solidFill>
            <a:srgbClr val="bbe0e3"/>
          </a:solidFill>
          <a:ln w="0">
            <a:noFill/>
          </a:ln>
          <a:effectLst>
            <a:outerShdw dist="71785" dir="2700000" blurRad="0" rotWithShape="0">
              <a:srgbClr val="ddddd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43200" bIns="44280" anchor="ctr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rebuchet MS"/>
                <a:ea typeface="Gulim"/>
              </a:rPr>
              <a:t>Pop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280" y="2195280"/>
            <a:ext cx="7920360" cy="258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شكرا</a:t>
            </a:r>
            <a:br>
              <a:rPr sz="10000"/>
            </a:br>
            <a:r>
              <a:rPr b="0" lang="hi-IN" sz="10000" spc="-1" strike="noStrike">
                <a:solidFill>
                  <a:srgbClr val="003399"/>
                </a:solidFill>
                <a:latin typeface="Arial"/>
              </a:rPr>
              <a:t>لكم</a:t>
            </a:r>
            <a:endParaRPr b="0" lang="en-US" sz="10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28" name="">
            <a:hlinkClick r:id="rId1" action="ppaction://hlinksldjump"/>
          </p:cNvPr>
          <p:cNvSpPr/>
          <p:nvPr/>
        </p:nvSpPr>
        <p:spPr>
          <a:xfrm>
            <a:off x="368280" y="331920"/>
            <a:ext cx="25909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6912000" y="252360"/>
            <a:ext cx="1946160" cy="83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0" dur="250" autoRev="1" fill="hold"/>
                                        <p:tgtEl>
                                          <p:spTgt spid="12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07-02-17T09:30:05Z</dcterms:modified>
  <cp:revision>37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